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DB9FF-786D-4A22-A97C-6AEEFA299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5DA54-AA75-4867-BDB1-997F4830C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A51FD-8C42-46E1-80BA-296CD2777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EF362-F747-4D09-87D6-F24461220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2ED87-2530-4A67-BF87-F2DA74D4B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4C03F-89DB-4D48-A624-10F9D6B8A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87749-7D0E-4238-B1A4-25AB64F25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25A55-CA45-4107-A294-954FD4474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B3468-F283-445E-83DE-CE70E6577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FE174-8D44-48C3-BC8A-1AF913375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9A0DB-376B-4762-8A34-D7A44F82E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1E9AC-23FC-4BE5-9D99-A75B708E5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ABDA4-EE28-4953-8E63-F38044964296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uturnArrow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-Tur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066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99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124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Strip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899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Notch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lef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hev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rightArrowCallout">
            <a:avLst>
              <a:gd name="adj1" fmla="val 25002"/>
              <a:gd name="adj2" fmla="val 25000"/>
              <a:gd name="adj3" fmla="val 33335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eftArrowCallout">
            <a:avLst>
              <a:gd name="adj1" fmla="val 25002"/>
              <a:gd name="adj2" fmla="val 25000"/>
              <a:gd name="adj3" fmla="val 33335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upArrowCallout">
            <a:avLst>
              <a:gd name="adj1" fmla="val 50007"/>
              <a:gd name="adj2" fmla="val 50003"/>
              <a:gd name="adj3" fmla="val 16667"/>
              <a:gd name="adj4" fmla="val 666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downArrowCallout">
            <a:avLst>
              <a:gd name="adj1" fmla="val 50007"/>
              <a:gd name="adj2" fmla="val 50003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ircular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95280" y="620640"/>
            <a:ext cx="6264360" cy="2952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leftRightArrow">
            <a:avLst>
              <a:gd name="adj1" fmla="val 50000"/>
              <a:gd name="adj2" fmla="val 3981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0:52:08Z</dcterms:created>
  <dc:creator>tb121644</dc:creator>
  <dc:description/>
  <dc:language>en-US</dc:language>
  <cp:lastModifiedBy>tb121644</cp:lastModifiedBy>
  <dcterms:modified xsi:type="dcterms:W3CDTF">2005-05-25T10:52:24Z</dcterms:modified>
  <cp:revision>1</cp:revision>
  <dc:subject/>
  <dc:title>Slide 1</dc:title>
</cp:coreProperties>
</file>