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75709"/>
        <c:axId val="5242318"/>
      </c:barChart>
      <c:catAx>
        <c:axId val="15675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2318"/>
        <c:crosses val="autoZero"/>
        <c:auto val="1"/>
        <c:lblAlgn val="ctr"/>
        <c:lblOffset val="100"/>
        <c:noMultiLvlLbl val="0"/>
      </c:catAx>
      <c:valAx>
        <c:axId val="5242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75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E53-4691-4674-9090-AD96C136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E39-3EA9-488B-AD8E-9A329D9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07B-9A19-4E78-A06C-E8ED075F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6F2-4696-451B-A4C6-40AB77CB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8D1-9395-4C77-A5C1-5BBFB308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716-DD48-4C6F-B0FB-ACB4F76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053-76C5-4342-9BAB-962CAF38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441-23D8-4BAE-AF85-743EF368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A74-31F0-40C2-802C-E4699136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CAA-0181-451D-BEE5-26B20DB7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7BE-CD55-40D3-AF65-C8A5E285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D31-0835-4165-BDD1-CD3B6E65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C531F-663D-40B5-96C9-912633F004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