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9013"/>
        <c:axId val="1594407"/>
      </c:barChart>
      <c:catAx>
        <c:axId val="1759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407"/>
        <c:crosses val="autoZero"/>
        <c:auto val="1"/>
        <c:lblAlgn val="ctr"/>
        <c:lblOffset val="100"/>
        <c:noMultiLvlLbl val="0"/>
      </c:catAx>
      <c:valAx>
        <c:axId val="1594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9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5CA-8DFD-41B5-A562-08AD60A4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BD1-889B-4A10-9429-7321ED0E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022-5AD4-4597-95B0-04AA3520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E96-B203-4CD4-ADA9-CA327853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4F3-4769-48A6-BEF5-C871EFCA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C3A-C93E-46FB-BC7C-9CEECC2B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623-4933-41E5-B493-5001D9E4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82F-7C4A-4146-B04C-6811F2A1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B69-B135-4868-AC32-F288A66A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BCF-BC68-4522-B47D-BE9E4771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A96-4BA5-43AB-B292-BBB482D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B32-0A33-4F37-850E-FC9A2189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FB081-613B-400A-B721-52B96D42F9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