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363"/>
        <c:axId val="29458819"/>
      </c:barChart>
      <c:catAx>
        <c:axId val="9650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58819"/>
        <c:crosses val="autoZero"/>
        <c:auto val="1"/>
        <c:lblAlgn val="ctr"/>
        <c:lblOffset val="100"/>
        <c:noMultiLvlLbl val="0"/>
      </c:catAx>
      <c:valAx>
        <c:axId val="29458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A3E-5916-486F-990D-EFF5301A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A8-C81F-477C-9034-AC06D70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C3F-2F19-4C09-B4AD-2E0A433D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6E2-B626-4BCB-BA62-5140A319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A28-4041-47D2-B9B2-DA45F8C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449-E5F5-4F98-A4A7-B415B8A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4C5-F57D-414C-89E3-0B9FC8CF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65E-88EA-44B1-956A-9AA98A6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C55-B380-4F74-B16D-F4551A12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4F5-A130-4B43-8D0B-BEEEA59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FA8-C510-44B6-9FAD-1CE95B2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17C-94BB-4796-B9A5-BEFE3DC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57F3F-6349-486E-B407-B6A44A6526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