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76904"/>
        <c:axId val="63048109"/>
      </c:barChart>
      <c:catAx>
        <c:axId val="40676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48109"/>
        <c:crosses val="autoZero"/>
        <c:auto val="1"/>
        <c:lblAlgn val="ctr"/>
        <c:lblOffset val="100"/>
        <c:noMultiLvlLbl val="0"/>
      </c:catAx>
      <c:valAx>
        <c:axId val="63048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76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A84-4794-49E7-B087-EEE1076B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304-20AC-4442-A061-C00678EA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CC1-E0AD-4F04-B462-3802D3C7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88F-1E0B-4845-9F5C-018E1F09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99C-B91B-46F3-8597-78EF9C5A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FA5-F631-413E-ADDC-38CC589B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5FB-BBA9-4863-8F14-0EDF3EEA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D51-5820-4929-A8ED-D65E9A8E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1BE-4C4B-400C-967C-3597AB7F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031-7C1B-4EB6-9C16-E037332C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5A1-ADB2-4125-B57F-3EE2E85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EE4-D5BF-4B38-A320-D86370D0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35379-7B3E-4CFD-A318-F3FD786D91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