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49862"/>
        <c:axId val="79292099"/>
      </c:barChart>
      <c:catAx>
        <c:axId val="78349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92099"/>
        <c:crosses val="autoZero"/>
        <c:auto val="1"/>
        <c:lblAlgn val="ctr"/>
        <c:lblOffset val="100"/>
        <c:noMultiLvlLbl val="0"/>
      </c:catAx>
      <c:valAx>
        <c:axId val="79292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49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473-CC46-4235-8352-F1ADF585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D7C-8679-40FC-9B80-76CE0D68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BEA-92A6-4F56-A5B6-C0EAD6CF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4F4-6481-489C-9107-FA64BC9C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9CE-567F-4D0D-B111-2F56F57B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35C-45D2-45F3-ACAF-DB9B7A5A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2A9-19C3-40E2-BEC4-D04D5B74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477-850A-4B92-AA05-EABD3AFF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51E-E7C6-4382-8ABA-F1CA8353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BF2-785F-4EC4-B93D-6B770F4B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2B5-8C24-4F62-A1D8-20678349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F46-DA08-40F6-966B-C0A6527D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DA9C0-2EFB-4E3A-9B5A-5D2338994D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