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32184"/>
        <c:axId val="51272311"/>
      </c:barChart>
      <c:catAx>
        <c:axId val="37632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72311"/>
        <c:crosses val="autoZero"/>
        <c:auto val="1"/>
        <c:lblAlgn val="ctr"/>
        <c:lblOffset val="100"/>
        <c:noMultiLvlLbl val="0"/>
      </c:catAx>
      <c:valAx>
        <c:axId val="51272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32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5B1-2DA1-45DA-BC55-E499B855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875-8377-45CE-B7CA-A38FEB28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0E3-D18A-4A59-806D-E21F48E8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E68-7302-4636-86A0-D34F27DF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05E-B469-4204-9D94-640607A4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28A-16BD-4E3A-8D83-4260EB67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684-E06C-4733-8AB0-F1E55668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06A-2DEA-4DA0-BE64-FDF3ED7B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1D1-D26A-4DF1-8737-7AF1F3A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7AF-A6C2-4735-AEBB-FECE3B1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163-5495-450B-A08D-EDA9CEA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3DA-6201-434C-B860-A053F65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1A3F9-F8B2-4349-8669-780543A376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