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1F3F5-1AFA-48F5-A53C-8B3E61BC0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BDC0A-07D1-4FDB-B51E-3A8C6BF2E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65719-FBCF-4227-86E8-E16A2C8FF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3DEEE-21C4-4386-BEEC-6DB5A8B45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07BE9-9D18-48EA-AEB0-7D61BFA4A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B1B3C-D451-49B4-B828-1DD9DC233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9B760-AB94-4C77-B8A6-0797FD8A9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C2734-E898-4BE5-B073-F52C0B864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157DB-6BDB-48B6-84F7-C58C67BB4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3F294-E182-49CC-B76E-DE56FA693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00025-72A4-475D-9BDC-D0C2074BE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E781D-C6B3-4FD9-A30C-7C2D33F0E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DC94A-CBA4-4DF0-844B-249034404BFB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hexagon">
            <a:avLst>
              <a:gd name="adj" fmla="val 50003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x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plus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ro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pentag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gular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Folded Cor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miley 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donut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n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noSmoking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“No“ Symb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parallelogram">
            <a:avLst>
              <a:gd name="adj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arallel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lock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91640 w 7197480"/>
              <a:gd name="textAreaRight" fmla="*/ 5501160 w 7197480"/>
              <a:gd name="textAreaTop" fmla="*/ 423000 h 3598560"/>
              <a:gd name="textAreaBottom" fmla="*/ 2257200 h 35985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ightningBol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ightning Bo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su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Mo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-6838200" y="358920"/>
            <a:ext cx="14394240" cy="7196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24080 w 7197480"/>
              <a:gd name="textAreaRight" fmla="*/ 6773400 w 7197480"/>
              <a:gd name="textAreaTop" fmla="*/ 424080 h 3598560"/>
              <a:gd name="textAreaBottom" fmla="*/ 3174480 h 3598560"/>
            </a:gdLst>
            <a:ahLst/>
            <a:rect l="textAreaLeft" t="textAreaTop" r="textAreaRight" b="textAreaBottom"/>
            <a:pathLst>
              <a:path w="4320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39600" y="21600"/>
                </a:lnTo>
                <a:arcTo wR="3600" hR="3600" stAng="10800000" swAng="5400000"/>
                <a:lnTo>
                  <a:pt x="43200" y="3600"/>
                </a:lnTo>
                <a:arcTo wR="3600" hR="3600" stAng="5400000" swAng="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la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115720 w 7197480"/>
              <a:gd name="textAreaRight" fmla="*/ 719784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582560 w 7197480"/>
              <a:gd name="textAreaRight" fmla="*/ 5614920 w 7197480"/>
              <a:gd name="textAreaTop" fmla="*/ 791280 h 3598560"/>
              <a:gd name="textAreaBottom" fmla="*/ 280728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Trapezo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504828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598280 w 7197480"/>
              <a:gd name="textAreaRight" fmla="*/ 719784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259920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iam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ounded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Isosceles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rtTriangl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22:04Z</dcterms:created>
  <dc:creator>tb121644</dc:creator>
  <dc:description/>
  <dc:language>en-US</dc:language>
  <cp:lastModifiedBy>tb121644</cp:lastModifiedBy>
  <dcterms:modified xsi:type="dcterms:W3CDTF">2005-05-25T09:56:44Z</dcterms:modified>
  <cp:revision>2</cp:revision>
  <dc:subject/>
  <dc:title>Slide 1</dc:title>
</cp:coreProperties>
</file>