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2FFAE0-4ECB-4070-ACA6-C240E54E13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03E2A8-DA5E-47D5-9C25-4C3E4E4F89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D38491-C869-47EF-8CCF-25C71DBC89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CE5834-4F67-4AA6-A4D4-AE135E894D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1FB161C-DD39-4261-BFD6-DB866F83D02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4ADA8D-6D9C-475B-A8A9-4EBDBA656D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8C725B-D2F0-4D27-BC5E-8E7CE1E680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7FB816-C12E-4759-93D4-23AF977830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2F90BC-198B-45F3-ABF0-4770EA2E27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861D08-4F0B-41A8-8A4A-7E3BF1DC4B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AEEAF7-6FA3-44EB-9D7F-4D011AD369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1CB40B-962B-4611-B6B8-07DF6A1497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DDAE18-5BAA-49AF-A637-8B0FC5A3C3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201A90-06F6-4FF1-9B2A-E0590FAEF9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FEB274-CA17-4C26-889C-535E8ABACC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500D87D-6F0F-47D1-9565-DC59A607C83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7691448-57D0-498F-A953-0542999D538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2998B6-D3AD-492D-B3C1-9E54D22EE1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CC379F-0319-4454-8C1A-F4B18C9DCB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DFBF02-C51E-4D19-9B01-056BC0B551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AA19E6-EFF7-45AB-AA83-B55CBB5D92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07FCFD-0D87-4EA9-B26A-1E5D127C46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079A40-6818-4E96-AE56-33AA86AA32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6EEC91-F155-4E83-8570-841DC88654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BD1F8A-18DF-40C0-9BB8-07B90C8F0D1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D26C50-C144-406D-B262-70D15CCC050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B242B66-53A0-4F22-90A4-57E99DE76CC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A2FE771-EC95-4A3F-BC40-CD2FB8225008}"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65FA30-4DA2-4D39-A8EE-E1A845295AE6}"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E9DAAC-C0C4-4990-B796-D6928ACB96F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A404A0-15EF-415B-A051-60F811493A12}"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F56D32-F8D7-47C2-A4D9-0A6253BFECBB}"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C375B1-7463-43A9-9D2E-CE9DBE3EF309}"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6B588F-7149-49EF-8DEC-F1A482E259BE}"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BBC97A-3260-48EA-B45F-87B0D5FA48E9}"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EC91E6-4B4B-442C-93DB-238EE34FEF03}"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569711-EE47-4449-905A-0C604733027F}"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66006C-1DA4-4EB5-82A6-2E81A15D906F}"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23B067-3BB1-40FA-870D-66BC600A8092}"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EBFDAC-3383-43E5-B0BC-AB8BFBED7878}"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0B990A-21EE-4A3B-B5F3-B3042ADFB9FD}"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7F63C5-CCDE-478C-BAA2-62E04C2FDF40}"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E15B70-33E7-476B-B46C-0A9990B14964}"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1E97F7-842F-4378-8D9D-4AD6D5DB1DE9}"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2606E6-BAA0-46AD-9BFA-F6DD518DA7DF}"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24B936-9D4B-4AD9-88CE-8FA49A13C650}"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8D08E3-84A2-4B38-B22E-B0E2870DA94D}"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F1BAC4-C293-4337-B3B5-6DF57AE25C74}"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A1C1B5-9CCE-4466-80D5-0BD67354FA60}"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D9486D-EA95-4632-BB08-B30BDCB67091}"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3B2827-3CB1-48B3-A356-87E50B33C680}"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E51515-6010-486C-83AB-3AD4BEDF9F8B}"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3E0ABD-C489-4FED-A8A7-D06D9A2DDA7E}"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CB822D9-4877-4EED-86BB-2793F6905AEF}"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4CAEA1-69D1-453A-9C64-6D938EAD8EC9}"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197E42-E1DD-4AB7-B52E-4A6699CF8DE1}"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4B931A-6B3A-48B2-9260-14B87156DD4B}"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468640-22A5-417F-90CD-EAD91AE1A1A4}"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80AB1E-9A2C-4B35-8475-0EBD3D149341}"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271120-0C9D-4D0D-BE91-CF08EA8092EF}"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AEF20F-AA09-4D46-8D0E-721FB2CF0DE1}"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E371CC-DD58-45D1-984B-DB5229A6698F}"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930EE5-9329-421F-B98A-7713D42AA4A6}"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A9D6E1-E732-4E88-8B0F-1187C49F0426}"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5830D7-AB79-45B0-AFC6-099626B7DDC9}"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CC71DB-54FA-4748-B5EF-6DA0BB39ED8D}"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09EA18-F5C1-4272-813A-2DB726F9DC34}"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81B893-0698-454D-B6ED-0234A9D9D955}"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8B972A-5000-4ADA-BBCE-AE1BCBD8E006}"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AAB286-D617-4D6D-B395-326723B1CEC8}"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619186-EEC0-43C1-85A3-8A57113F5F27}"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7C75AE-A94B-4CE6-8B71-FB18498E4D93}"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BC85BE-96F6-4648-89D2-0B940801BBB8}"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94618F-087C-457D-A3D2-E4C3088CC4C8}"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4B9D0F4-68B7-46C9-87CC-E35948008350}"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DB45CD-26D9-4062-8579-A60AC493870D}"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37EBB0-6B12-4662-990F-FACA2BD39F1B}"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DDAC653-B960-4542-A924-28237E73384B}"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A1D964-B98A-4029-9C9F-FAF9E1BC62D7}"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10433D-159D-4A51-94AA-90527B0E2F3A}"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6073EC-D6CE-41E3-B3A1-9B69385988E1}"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ECFE36-6269-4937-889C-B5533C51F3CB}"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EA4DB2-E374-4EFD-B066-DF56675CE18E}"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24E18F-06BE-4E0B-BF6E-4306E5669045}"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EC27F2-A1E6-40B3-8759-823D1D8814E1}"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B2038DD-E9A2-42E7-8B36-82BB9513D0B0}"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8BF748-A97F-4A62-885E-766EC72DA929}"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1F35D6-790A-407E-8B5D-E57018A4A944}"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7517A4-E4C2-4408-B5BC-460312232F38}"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203427-A916-4596-A733-042723466A5B}"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355A05-5FFF-473F-A892-2B180AAC4B05}"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C546CB0-D7B3-447A-BB96-E698D8959799}"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C646B3-A93B-4F13-BE49-6B54C99B3FAB}"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B7610A-9188-4F97-9FDF-4B184B3E250A}"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F64160-E5C6-4EF2-B63C-7E17FEE745CB}"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7E180B-7355-493A-B827-5A98C23A2C30}"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AD56F1A-2788-45D0-886F-3FDE7CAA49EF}"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50C1B1-A3FE-42B2-8DE8-8BC63FE6B800}"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88B7CC-6CBC-49E9-B13C-99689C852925}"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A00DF3-8092-4D97-BA5C-AC05D50BB332}"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BEE423-B651-4F56-9F5B-D8CEF0924CC6}"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ED1DFA-03FC-49A5-BEC7-F24A15BF17DA}"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3E7976-A8F3-4493-A2C9-FC6D1281F9BA}"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299F000-EA5E-41D8-A768-0877B8F9679C}"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343EC5-E23B-4D3F-9265-A33E97E31B3D}"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1F183C-EE34-4F32-95DF-D0CD0CC1C574}"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72CF15-C4D3-4AF8-9E9E-2E3D8FEC1A8A}"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F229905-DF9F-45AC-94A8-5C67E560E8A4}"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D3482B-6E94-46BC-9A10-E5B92888F1F2}"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50795E9-4524-4179-9553-10F4D6A19905}"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AB8C1D-D00A-46A5-AC5C-342C20D03B44}"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D045B0-FFE2-4229-A2C0-0868C93EB507}"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8C893E-4035-4151-839C-55BC7F9BE5C4}"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B4E814-3941-43EE-BB82-70C153218428}"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8A31C4-F998-4709-8140-D761BC187879}"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856CF5-099D-46E9-80D4-92366EBD2797}"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E58352-AFCF-4E68-9695-5ABB96BDDC33}"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FB517D-6D74-4620-849C-72FA1FC78007}"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0BDD48-7130-4881-8079-C465725603E5}"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F29EB3-8AA3-45C8-8C69-837FE504A54A}"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6A0D6F-1549-424B-B8EE-C6032C6FAF58}"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308802-C427-48DB-81D8-295E2610B387}"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559BCD-5721-4CD9-8672-0D89474ADF59}"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4BFC3A-8EBE-47F5-B163-71FBC8BBFE95}"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020027-2CE7-4F4F-8E15-F13FC5B52AD0}"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609C33A-5E1B-4DAD-A633-6377BD152ABD}"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455B27-F8B5-41B2-9630-3ACDCA73B142}"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0C04DD-CF4B-455D-9698-5B3BD5007FDD}"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8DBB50-8103-4138-9F57-380F830252B5}"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AC2D11-85AD-4F99-9EB2-EB2258812508}"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B8BEA5-93A9-476F-973F-27C5E0D6E6E0}"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5FEF51-1590-42F5-8AFA-1CECBB900BC4}"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31B0AC-97C6-418E-992E-213AB0F7C5D3}"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4322CA-B0DB-473D-9988-37D411FCC559}"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F690FC-345B-4466-B7AB-541E4004AF72}"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DE5803-6554-44FA-81B8-DDDBAD39A86A}"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8AE605-7876-4F27-B509-7BBC565E2B1C}"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2CCC01-C1F0-4E50-8FB4-8789E8D009B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095559-52FB-4CE0-8E99-5B13BF00DAAE}"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A09B2A-D020-4177-80F5-24ED658E6BF9}"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D5AF5C-2B1B-475A-8545-AFE60F630B3A}"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AE91E5-52B1-4976-B57C-7ED76AD82449}"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34B61F-05C6-4D2B-9AEA-02B12B2BA96F}"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737B6A-204B-4D14-A5A4-40392F4BF9D6}"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16B98F-D865-4BFB-8D1A-0C73079AAB2F}"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170373-2CAE-49E5-8229-7B4FCC0B276F}"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E702B8-A3FB-4D81-B571-0644D376E699}"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BFBE10-1DEF-4D2C-BC12-59AF6F3CF7FD}"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891CA0-E96B-4BD3-A879-0CCB913E2912}"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49146F-9D09-424C-B585-B36D7C37DF11}"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64F3EB-D590-47E9-821E-ABDCF39EF93A}"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29EE7F-B453-415A-AD40-FBF707559040}"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D164EE-85DB-48EC-8BF7-2E0B74BCED34}"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54FA705-8403-4F6B-98D3-5A1E4EAEFCB8}"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838193-512E-46F7-8B40-E4BA69046A0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AEAC15-F96A-4CD2-AC7A-E31F19A5113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CECFBE-BC75-4B80-BE67-97AEF4D59E4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A11C38-1851-4FE5-9748-6096A99039C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3B7D21-0DA6-4342-A2CB-4FF16AF368D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8384E1-F19C-4383-9414-1F76D330563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BD11A18-0D1A-46DE-8E56-FA450320478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3A86F9-8961-421B-9483-796C2150362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AB64B0-A8FF-4754-BC20-F37B3E1894F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77DFA9-AEAC-4244-B861-FD55AA4ACBF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076D05-E12B-4AF0-A07A-3CB33342B04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D9ABCF-9261-46D6-91C4-BBB6E2F8CCA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9FD876-67F1-41E4-B533-F0D19C6C039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26086F-B378-4E2C-BE4A-6E11A8B0189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63E6B7-6916-4169-B8B5-F71B6D13B1E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DCB31A-86A7-4E93-9BCA-883E9D49133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86F428-B0ED-4AE8-8FAE-56EC1477496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87EA4D-8486-4506-9E99-21F557E3837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421190-537C-4D93-8B3A-55C099EF837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2C6854-3058-4030-AD94-7349C734B45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541C4C-4052-41F7-82F0-F076DAC849D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C49AA6-EA5F-4452-9B3F-5D46DFEB06A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EC88D3-BE8C-4FA9-8760-72D6908D37C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6271AB-4A4C-465A-8307-039AA32F5FF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0716F6-D628-4216-91B9-487933D86A0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26E2D1-F4C0-4387-A0F0-FF89C1DBE41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33D07A-0BEA-42C5-9375-043FB3C4615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2F51BB-5119-40E4-9304-6900634C2B7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8523C3-3E27-410D-8D1D-BB8FEE5C8B3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F070F5-3ABB-43B2-9FFC-E73A993E5DD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19E350-C052-441D-A1BA-BA540D88B3F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5250E7-DDB0-4975-A5B9-52D41FD90BB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1D4FAD-E234-45F9-83C3-06042CA6A52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10E37E-B69F-4967-B303-9BE31975AD8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F1CE75-3CF0-4A61-892B-DD90C7B9533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A110F8-9347-47D7-8831-C853FC9A78B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999C5C-2F2E-4139-9D06-0EDC2618061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3275D0-958D-40CF-9550-AC97059C2FCC}"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7BB54E-6E6D-47CA-BFF7-95DFAC5DDD76}"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4C02C1-30C8-4D7A-BC03-9D4E6672A4B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5851F4-EB72-4B4A-B43A-E8134A1D5758}"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7FB899-6348-4DE3-B998-79F3C0720F42}"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79BB2B-6461-40A6-B806-F761255E5C2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C565BE-59C6-49C4-B043-8608063B73A3}"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842755-3A38-4A65-A777-FEA48BEF4AE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5C3720-968B-4957-BAC6-FC795B20249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C3AA15-7AC2-4DB5-9261-F22D5C89D5D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6D07640-6278-452A-A06B-5B5A61AC58AC}"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A288D7-3810-44CA-BD52-521CEE6B6EF5}"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3326CB-89D8-441D-9D53-67B1E05DE7E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52F7C9-08B6-4B00-BBE4-DFD72C23829E}"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B5C78C-29B8-4EB4-A9FA-6ABA14F9D9EA}"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2C1500-27CD-4035-B5B2-FD77D0CF0EF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B0BD5E-8EDB-494C-B8DD-984684FFCD86}"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509868-9E28-4EA4-8C82-B87EACF2F62F}"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6D9664-00EF-43FB-9BAB-8EBA3EC4D6F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55A03CA-E015-45BD-8CCC-07C088CEAF1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D2A7B7-D39A-4E32-86A0-EC3FBE12DF8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7C9562-73EE-48D0-AB88-6CEF39572FA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5D5800-5AE5-458E-AE7E-AD3865CBE8E5}"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5B5656-F62E-49F0-B69A-C7C0BC9B699F}"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03D627-1097-4677-AF66-56045D4DA50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6149C7-66F2-411F-A57F-3DDEC5A44D6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453694-6565-4C26-81C7-78B783420123}"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A2DA90-1D37-47F2-8E6C-EB3E20D7FD8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DAB15D-2397-4D70-9B94-5D21D4C629D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983E4E-D353-4EAE-98C7-273BB9F3679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3312D3-9FB6-4F8E-B40D-67BD709CB4E1}"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7E9D74-2A40-4821-B3CC-DD11B7C19F2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61D7DE-53DC-4037-9F2F-BBA40491FA6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27FF88-CDCE-4628-8BD1-34F1E1D7FA72}"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346BE32-5845-41E8-A8E8-D01109C8A909}"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FB1483-D40E-47A7-AB84-E18241BA5928}"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9F00AC-2308-484C-990B-313D14009307}"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DD8C01-B5E9-4015-9C82-63DA85780BD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7C253F-6153-4CFC-834B-CB608766983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6EBC26-6541-4832-9D9A-5CD2091E232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116329-6288-4E81-8C7B-79807C9E28B8}"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59D07C-4970-4DD7-981A-879B67906D8C}"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952A1F-2D40-4248-A8E3-8332220F2AA6}"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1788AE-92E0-487E-B372-4344ED9E09D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D45407-C5A0-4197-B296-5BD3C5DE5BE2}"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5CE1A6-3C6B-4C89-A1BB-0D1BC762250E}"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5CD575-F5AB-4E9C-9B6C-B24C3D879264}"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6D770D-DC66-413D-A6F8-A201D34469D2}"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