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5.jpeg" ContentType="image/jpeg"/>
  <Override PartName="/ppt/media/image35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11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69328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23880" y="3954600"/>
            <a:ext cx="69328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76360" y="144792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23880" y="395460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76360" y="395460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223200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67840" y="1447920"/>
            <a:ext cx="223200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11800" y="1447920"/>
            <a:ext cx="223200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23880" y="3954600"/>
            <a:ext cx="223200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67840" y="3954600"/>
            <a:ext cx="223200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11800" y="3954600"/>
            <a:ext cx="223200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23880" y="1447920"/>
            <a:ext cx="69328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69328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33829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76360" y="1447920"/>
            <a:ext cx="33829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23880" y="338040"/>
            <a:ext cx="693288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6360" y="1447920"/>
            <a:ext cx="33829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3880" y="395460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33829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76360" y="144792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76360" y="395460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76360" y="144792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954600"/>
            <a:ext cx="69328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914400"/>
            <a:ext cx="1333440" cy="5943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447920" y="6324480"/>
            <a:ext cx="1904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05320" y="6324480"/>
            <a:ext cx="28954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040520" y="101520"/>
            <a:ext cx="1992240" cy="417600"/>
            <a:chOff x="7040520" y="101520"/>
            <a:chExt cx="1992240" cy="417600"/>
          </a:xfrm>
        </p:grpSpPr>
        <p:pic>
          <p:nvPicPr>
            <p:cNvPr id="5" name="" descr=""/>
            <p:cNvPicPr/>
            <p:nvPr/>
          </p:nvPicPr>
          <p:blipFill>
            <a:blip r:embed="rId4"/>
            <a:stretch/>
          </p:blipFill>
          <p:spPr>
            <a:xfrm>
              <a:off x="8405640" y="101520"/>
              <a:ext cx="62712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5"/>
            <a:stretch/>
          </p:blipFill>
          <p:spPr>
            <a:xfrm>
              <a:off x="7040520" y="142920"/>
              <a:ext cx="1336680" cy="33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" name=""/>
          <p:cNvGrpSpPr/>
          <p:nvPr/>
        </p:nvGrpSpPr>
        <p:grpSpPr>
          <a:xfrm>
            <a:off x="8458200" y="6561000"/>
            <a:ext cx="685800" cy="348840"/>
            <a:chOff x="8458200" y="6561000"/>
            <a:chExt cx="685800" cy="348840"/>
          </a:xfrm>
        </p:grpSpPr>
        <p:sp>
          <p:nvSpPr>
            <p:cNvPr id="8" name=""/>
            <p:cNvSpPr/>
            <p:nvPr/>
          </p:nvSpPr>
          <p:spPr>
            <a:xfrm>
              <a:off x="8458200" y="6561000"/>
              <a:ext cx="685800" cy="3049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58200" y="6561000"/>
              <a:ext cx="68580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B4912BE-57DF-40AE-8324-C8B3A49B8439}" type="slidenum">
                <a:rPr b="0" lang="en-GB" sz="900" spc="-1" strike="noStrike">
                  <a:solidFill>
                    <a:srgbClr val="3333cc"/>
                  </a:solidFill>
                  <a:latin typeface="Times New Roman"/>
                </a:rPr>
                <a:t>&lt;number&gt;</a:t>
              </a:fld>
              <a:r>
                <a:rPr b="0" lang="en-GB" sz="900" spc="-1" strike="noStrike">
                  <a:solidFill>
                    <a:srgbClr val="3333cc"/>
                  </a:solidFill>
                  <a:latin typeface="Times New Roman"/>
                </a:rPr>
                <a:t> of 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523880" y="1447920"/>
            <a:ext cx="69328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nalysis/proserver/" TargetMode="External"/><Relationship Id="rId2" Type="http://schemas.openxmlformats.org/officeDocument/2006/relationships/hyperlink" Target="http://das.sanger.ac.uk/registry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formats/GFF/" TargetMode="External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hyperlink" Target="http://www.ensembl.org/Homo_sapiens/contigview?data_URL=http://www.ensembl.org/info/data/external_data/examples/url_bed.txt" TargetMode="External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formats/GFF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search.cpan.org/~rpettett/Bio-DasLite-0.14" TargetMode="External"/><Relationship Id="rId2" Type="http://schemas.openxmlformats.org/officeDocument/2006/relationships/hyperlink" Target="http://www.biodas.org/download/Bio::Das" TargetMode="Externa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nsembl.org/das/Homo_sapiens.current.reference/entry_points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0360" y="639720"/>
            <a:ext cx="7385040" cy="10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a40000"/>
                </a:solidFill>
                <a:latin typeface="Arial"/>
              </a:rPr>
              <a:t>Ensembl and DAS 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073400" y="5278320"/>
            <a:ext cx="4499280" cy="1046160"/>
            <a:chOff x="4073400" y="5278320"/>
            <a:chExt cx="4499280" cy="1046160"/>
          </a:xfrm>
        </p:grpSpPr>
        <p:sp>
          <p:nvSpPr>
            <p:cNvPr id="50" name=""/>
            <p:cNvSpPr/>
            <p:nvPr/>
          </p:nvSpPr>
          <p:spPr>
            <a:xfrm>
              <a:off x="4073400" y="5278320"/>
              <a:ext cx="4499280" cy="38124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73400" y="5278320"/>
              <a:ext cx="4499280" cy="10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3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808080"/>
                  </a:solidFill>
                  <a:latin typeface="Arial"/>
                </a:rPr>
                <a:t>Eugene Kulesh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808080"/>
                  </a:solidFill>
                  <a:latin typeface="Arial"/>
                </a:rPr>
                <a:t>Wellcome Trust Sanger Instit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808080"/>
                  </a:solidFill>
                  <a:latin typeface="Arial"/>
                </a:rPr>
                <a:t>April 200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212040" y="6462720"/>
            <a:ext cx="912960" cy="26424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</a:rPr>
              <a:t>April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70360" y="3343320"/>
            <a:ext cx="1471680" cy="139212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3657600" y="3089160"/>
            <a:ext cx="1762200" cy="1787760"/>
            <a:chOff x="3657600" y="3089160"/>
            <a:chExt cx="1762200" cy="1787760"/>
          </a:xfrm>
        </p:grpSpPr>
        <p:grpSp>
          <p:nvGrpSpPr>
            <p:cNvPr id="55" name=""/>
            <p:cNvGrpSpPr/>
            <p:nvPr/>
          </p:nvGrpSpPr>
          <p:grpSpPr>
            <a:xfrm>
              <a:off x="3657600" y="3089160"/>
              <a:ext cx="1762200" cy="1787760"/>
              <a:chOff x="3657600" y="3089160"/>
              <a:chExt cx="1762200" cy="1787760"/>
            </a:xfrm>
          </p:grpSpPr>
          <p:sp>
            <p:nvSpPr>
              <p:cNvPr id="56" name=""/>
              <p:cNvSpPr/>
              <p:nvPr/>
            </p:nvSpPr>
            <p:spPr>
              <a:xfrm>
                <a:off x="3657600" y="3089160"/>
                <a:ext cx="1762200" cy="1787760"/>
              </a:xfrm>
              <a:custGeom>
                <a:avLst/>
                <a:gdLst/>
                <a:ahLst/>
                <a:rect l="l" t="t" r="r" b="b"/>
                <a:pathLst>
                  <a:path w="4896" h="4967">
                    <a:moveTo>
                      <a:pt x="2447" y="0"/>
                    </a:moveTo>
                    <a:cubicBezTo>
                      <a:pt x="1112" y="0"/>
                      <a:pt x="0" y="282"/>
                      <a:pt x="0" y="620"/>
                    </a:cubicBezTo>
                    <a:lnTo>
                      <a:pt x="0" y="4346"/>
                    </a:lnTo>
                    <a:cubicBezTo>
                      <a:pt x="0" y="4684"/>
                      <a:pt x="1112" y="4966"/>
                      <a:pt x="2447" y="4966"/>
                    </a:cubicBezTo>
                    <a:cubicBezTo>
                      <a:pt x="3783" y="4966"/>
                      <a:pt x="4895" y="4684"/>
                      <a:pt x="4895" y="4346"/>
                    </a:cubicBezTo>
                    <a:lnTo>
                      <a:pt x="4895" y="620"/>
                    </a:lnTo>
                    <a:cubicBezTo>
                      <a:pt x="4895" y="282"/>
                      <a:pt x="3783" y="0"/>
                      <a:pt x="2447" y="0"/>
                    </a:cubicBezTo>
                  </a:path>
                </a:pathLst>
              </a:custGeom>
              <a:solidFill>
                <a:srgbClr val="0099ff">
                  <a:alpha val="35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657600" y="3089160"/>
                <a:ext cx="1762200" cy="447840"/>
              </a:xfrm>
              <a:custGeom>
                <a:avLst/>
                <a:gdLst/>
                <a:ahLst/>
                <a:rect l="l" t="t" r="r" b="b"/>
                <a:pathLst>
                  <a:path w="4896" h="1242">
                    <a:moveTo>
                      <a:pt x="2447" y="0"/>
                    </a:moveTo>
                    <a:cubicBezTo>
                      <a:pt x="1112" y="0"/>
                      <a:pt x="0" y="282"/>
                      <a:pt x="0" y="621"/>
                    </a:cubicBezTo>
                    <a:cubicBezTo>
                      <a:pt x="0" y="960"/>
                      <a:pt x="1112" y="1241"/>
                      <a:pt x="2447" y="1241"/>
                    </a:cubicBezTo>
                    <a:cubicBezTo>
                      <a:pt x="3783" y="1241"/>
                      <a:pt x="4895" y="960"/>
                      <a:pt x="4895" y="621"/>
                    </a:cubicBezTo>
                    <a:cubicBezTo>
                      <a:pt x="4895" y="282"/>
                      <a:pt x="3783" y="0"/>
                      <a:pt x="2447" y="0"/>
                    </a:cubicBezTo>
                  </a:path>
                </a:pathLst>
              </a:custGeom>
              <a:solidFill>
                <a:srgbClr val="0099ff">
                  <a:alpha val="35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"/>
          <p:cNvSpPr/>
          <p:nvPr/>
        </p:nvSpPr>
        <p:spPr>
          <a:xfrm>
            <a:off x="4309920" y="2454120"/>
            <a:ext cx="1800" cy="932040"/>
          </a:xfrm>
          <a:prstGeom prst="line">
            <a:avLst/>
          </a:prstGeom>
          <a:ln w="146160">
            <a:solidFill>
              <a:srgbClr val="ff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57920" y="2451240"/>
            <a:ext cx="1440" cy="938160"/>
          </a:xfrm>
          <a:prstGeom prst="line">
            <a:avLst/>
          </a:prstGeom>
          <a:ln w="146160">
            <a:solidFill>
              <a:srgbClr val="2300d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97000" y="1460520"/>
            <a:ext cx="775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ploring assembl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ensembl.org/das/Homo_sapiens.current.reference/features?segment=1:1,1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51080" y="2168640"/>
            <a:ext cx="7439040" cy="42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50280" y="1460520"/>
            <a:ext cx="7709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ploring assembl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ensembl.org/das/Homo_sapiens.current.reference/features?segment=NT_0779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87520" y="2178000"/>
            <a:ext cx="7056360" cy="44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76840" y="1487520"/>
            <a:ext cx="76510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xploring assembly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ttp://www.ensembl.org/das/Homo_sapiens.current.reference/features?segment=AL732372.15.1.1536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93840" y="2340000"/>
            <a:ext cx="75247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23880" y="30420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53320" y="907920"/>
            <a:ext cx="69897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ploring assembl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ensembl.org/das/Homo_sapiens.current.karyotype/features?segment=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87560" y="1487520"/>
            <a:ext cx="4389480" cy="53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74680" y="2562480"/>
            <a:ext cx="77724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Adding DAS source to Ensemb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23880" y="749520"/>
            <a:ext cx="735804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Adding DAS source to Ensemb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06360" y="1568520"/>
            <a:ext cx="771048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Switch on pre-configured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Set up your own serv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(ProServer, Dazzle, LDAS – see Ensembl do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Configure an existing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Upload your own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View your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Send your source to a collea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Web-based sources (Contigview &amp; Cytoview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14240" y="547560"/>
            <a:ext cx="6933960" cy="17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Switch on a pre-configured source in geneview, protview, transvie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97080" y="2495520"/>
            <a:ext cx="7737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41520" y="528480"/>
            <a:ext cx="6934320" cy="17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Switch on a pre-configured source in contigview and cytovie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41440" y="2352600"/>
            <a:ext cx="7402680" cy="42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Set up your own DAS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1040" y="1397160"/>
            <a:ext cx="6750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04840" y="1560600"/>
            <a:ext cx="5570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33440" y="1560600"/>
            <a:ext cx="7439040" cy="47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Serve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sanger.ac.uk/Software/analysis/proserver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zzl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www.biojava.org/dazzle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DA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biodas.org/servers/LDA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register with DAS Registry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das.sanger.ac.uk/reg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280800"/>
            <a:ext cx="6934320" cy="5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 Registry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51040" y="1397160"/>
            <a:ext cx="6750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04840" y="1560600"/>
            <a:ext cx="5570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22320" y="976320"/>
            <a:ext cx="8115480" cy="54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3880" y="659880"/>
            <a:ext cx="6934320" cy="5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and Ensemb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31960" y="1932120"/>
            <a:ext cx="6603840" cy="39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S Essent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 as DAS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ing DAS sources to Ensembl vi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S configuration in Ensem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S code in Ensem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ture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Configure an existing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33360" y="1432080"/>
            <a:ext cx="7764480" cy="406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Configure an existing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43160" y="1198440"/>
            <a:ext cx="7675560" cy="529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Configure an existing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81160" y="1633680"/>
            <a:ext cx="608652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Configure an existing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97160" y="1260360"/>
            <a:ext cx="765648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Configure an existing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70080" y="2065320"/>
            <a:ext cx="7675560" cy="32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Upload your data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89080" y="1341360"/>
            <a:ext cx="784692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le forma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notation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sanger.ac.uk/Software/formats/GF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ylesheet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CSS_support.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das_upload_v1.eu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2060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Upload your data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87680" y="1069920"/>
            <a:ext cx="6657840" cy="546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Upload your data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16120" y="2038320"/>
            <a:ext cx="6600960" cy="26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View your data in genevie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3880" y="1351080"/>
            <a:ext cx="625788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View your data in contigvie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55920" y="1316160"/>
            <a:ext cx="6648120" cy="53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23880" y="52164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Essent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224000"/>
            <a:ext cx="6934320" cy="50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Distributed Annotation System (DA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A server system for the sharing of Reference Sequences, and their annot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DAS serv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Referenc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Annotation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DAS reques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entry_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Ensembl as DAS serv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http://www.biodas.org/documents/spec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407520"/>
            <a:ext cx="6934320" cy="9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View your data in protvie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79440" y="4200480"/>
            <a:ext cx="7385040" cy="2514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333440" y="1158840"/>
            <a:ext cx="7462800" cy="29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90000"/>
            <a:ext cx="6933960" cy="9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View your data in protvie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68520" y="942840"/>
            <a:ext cx="6313320" cy="56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523880" y="404640"/>
            <a:ext cx="693432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Gene-based annotations in contig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12960" y="2286000"/>
            <a:ext cx="1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33520" y="1514520"/>
            <a:ext cx="6657840" cy="526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41520" y="190440"/>
            <a:ext cx="693432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Applying styleshee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11520" y="2286000"/>
            <a:ext cx="1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57240" y="966960"/>
            <a:ext cx="6572520" cy="4903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154240" y="6141960"/>
            <a:ext cx="71924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CSS_support.pd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Using score data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11520" y="2286000"/>
            <a:ext cx="1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12720" y="1395360"/>
            <a:ext cx="71154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Using score data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11520" y="2286000"/>
            <a:ext cx="1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390680" y="54000"/>
            <a:ext cx="6415200" cy="675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Send the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41520" y="1479600"/>
            <a:ext cx="7292880" cy="32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www.ensembl.org/Homo_sapines/contigvie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f_script=contigview;c=13:31829752.5:1;w=500000;h=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dd_das_source= (name=hydraeuf_00001291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rl=http://das.ensembl.org/das+dsn=hydraeuf_00001291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ype=ensembl_location+color=red+strand=b+labelflag=u+stylesheet=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+group=n+depth=10+score=n+active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Web-based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6520" y="4454640"/>
            <a:ext cx="763920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ensembl.org/info/data/external_data/examples/url_bed.t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ensembl.org/info/data/external_data/examples/url_pcl.t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ensembl.org/info/data/external_data/examples/url_gff.t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39920" y="1636560"/>
            <a:ext cx="7804080" cy="20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umberland;Courier New;Courier;"/>
              </a:rPr>
              <a:t>browser position chr19:6900001-74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umberland;Courier New;Courier;"/>
              </a:rPr>
              <a:t>track name=BAC_end_pairs_bed description="BAC end pairs (BED)" useScore=1 color=ffcc66 url=http://www.ensembl.org/human/fastaview?faid=DNA_bacend_1533&amp;id=$$ height=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umberland;Courier New;Courier;"/>
              </a:rPr>
              <a:t>19      6503520 6641948 CTD-3084A17:AQ144413-AQ186293   1000    -       6503520 6641948 0       2       462,512 0,1379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umberland;Courier New;Courier;"/>
              </a:rPr>
              <a:t>19      6527567 6695619 RP11-357B22:AZ518790-AQ552859   1000    -       6527567 6695619 0       2       470,525 0,1675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umberland;Courier New;Courier;"/>
              </a:rPr>
              <a:t>19      6527640 6704480 RP11-134L9:AQ388324-AQ388334    1000    -       6527640 6704480 0       2       307,557 0,1762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isplay of web-based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87680" y="1906560"/>
            <a:ext cx="6657840" cy="41720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352520" y="1544760"/>
            <a:ext cx="767556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ensembl.org/Homo_sapiens/contigview?data_URL=http://www.ensembl.org/info/data/external_data/examples/url_bed.tx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343160" y="177840"/>
            <a:ext cx="6933960" cy="5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xercise 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880920"/>
            <a:ext cx="7846920" cy="63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reate a file for upload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wo features should belong to the group 'Probe A'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ree features should belong to the group 'Probe B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ylesheet section that renders Probe A features in red and Probe B features in g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pload the  file and view the track in contigvi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 the same source via auto-attach URL, but with stylesheet switched off and features grou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le forma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sanger.ac.uk/Software/formats/GFF/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CSS_support.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das_upload_v1.eu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23880" y="52164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istributed Annotation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04920" y="1136520"/>
            <a:ext cx="7475400" cy="560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50880" y="2856240"/>
            <a:ext cx="69516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751040" y="96480"/>
            <a:ext cx="613404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36600" y="1521000"/>
            <a:ext cx="8242200" cy="43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sLite: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search.cpan.org/~rpettett/Bio-DasLite-0.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oDas: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biodas.org/download/Bio::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AP  : http://soaplite.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i-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AULTS.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configure a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Up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jou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Server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06680" y="132840"/>
            <a:ext cx="587988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23560" y="1068480"/>
            <a:ext cx="7913160" cy="54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AULT.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Web services (Used for DAS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WWW_PROXY        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S_REGISTRY_URL        = http://das.sanger.ac.uk/reg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SERVERS         = [das.ensembl.org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UPLOAD_SERVER    = das.mydomai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UPLOAD_DB_HOST    = das.mydomai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UPLOAD_DB_PORT    = 33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UPLOAD_DB_NAME    = ens_up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UPLOAD_DB_USER    =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UPLOAD_DB_PASS 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87600" y="313560"/>
            <a:ext cx="664200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</a:t>
            </a:r>
            <a:br>
              <a:rPr sz="3600"/>
            </a:br>
            <a:r>
              <a:rPr b="1" lang="en-GB" sz="2600" spc="-1" strike="noStrike">
                <a:solidFill>
                  <a:srgbClr val="3333cc"/>
                </a:solidFill>
                <a:latin typeface="Arial"/>
              </a:rPr>
              <a:t>Preconfigure a source</a:t>
            </a: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13880" y="1595520"/>
            <a:ext cx="5580000" cy="54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mo_sapiens.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LTI.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DAS Conf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ENSEMBL_INTERNAL_DAS_SOURCE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urceA =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urceB =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urceC =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Source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sn        = proj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rl         = http://das.ensembl.org/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         = [ contigview cytoview geneview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87400" y="-67320"/>
            <a:ext cx="63882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0560" y="457200"/>
            <a:ext cx="6044760" cy="63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[SourceA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sn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projec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url 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http://das.ensembl.org/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on 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[ contigview cytoview geneview 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ensembl_lo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label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Source A prob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aption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Source A prob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ol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bla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labelflag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homepage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http://das.ensembl.org/das/projec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helplink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http://das.ensembl.org/das/projec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trand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epth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999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group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tylesheet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core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[ contigview 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NCBIM3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fasta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[ DNA_A_probes 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366920" y="389880"/>
            <a:ext cx="7640640" cy="9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 </a:t>
            </a:r>
            <a:br>
              <a:rPr sz="3600"/>
            </a:br>
            <a:r>
              <a:rPr b="1" lang="en-GB" sz="2600" spc="-1" strike="noStrike">
                <a:solidFill>
                  <a:srgbClr val="3333cc"/>
                </a:solidFill>
                <a:latin typeface="Arial"/>
              </a:rPr>
              <a:t>Data uplo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168640" y="2373480"/>
            <a:ext cx="5829120" cy="33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03520" y="335880"/>
            <a:ext cx="7440480" cy="9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 </a:t>
            </a:r>
            <a:br>
              <a:rPr sz="3600"/>
            </a:br>
            <a:r>
              <a:rPr b="1" lang="en-GB" sz="2600" spc="-1" strike="noStrike">
                <a:solidFill>
                  <a:srgbClr val="3333cc"/>
                </a:solidFill>
                <a:latin typeface="Arial"/>
              </a:rPr>
              <a:t>Data uplo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97200" y="1552680"/>
            <a:ext cx="5334120" cy="47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figure ProServer (eg/proserver.ini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hydraeuf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te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aptor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upload_e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ydra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d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nsport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d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ename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e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bname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ens_up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st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das.mydomai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rt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33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rname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rw_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ssword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95280" y="2856240"/>
            <a:ext cx="771228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Future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276640" y="83880"/>
            <a:ext cx="591336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Future develop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31760" y="811080"/>
            <a:ext cx="6587280" cy="60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r log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eserving Ensembl DAS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nsembl as DAS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rving Ensembl data as DAS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AS for Functional genom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bining features and real valu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nsembl Upload Format, vers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ploading gene and protein bas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`meta`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figure Ensembl display at the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ross-assembly 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splay sources based on old assemblies on the current Ensemb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AS2 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11320" y="2933640"/>
            <a:ext cx="75214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DASTalk.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00160" y="3514680"/>
            <a:ext cx="743256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DASTalk.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01760" y="1998720"/>
            <a:ext cx="71071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Essent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95520" y="1316160"/>
            <a:ext cx="5043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`dsn` -  Get the list of available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67040" y="2673360"/>
            <a:ext cx="5371920" cy="3143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973600" y="2022480"/>
            <a:ext cx="3717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das.ensembl.org/das/d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Essent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82640" y="2400480"/>
            <a:ext cx="6086520" cy="3943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03480" y="1333440"/>
            <a:ext cx="39290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`features` - Get the anno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88800" y="1895400"/>
            <a:ext cx="738900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ebi.ac.uk/das-srv/asd/das/atd_human/features?segment=13:3770000,381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59480" y="1496880"/>
            <a:ext cx="473148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st of reference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www.ensembl.org/das/d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71520" y="2182680"/>
            <a:ext cx="76471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94840" y="1389240"/>
            <a:ext cx="795276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st of entry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ensembl.org/das/Homo_sapiens.current.reference/entry_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www.ensembl.org/das/Homo_sapiens.NCBI36.reference/entry_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322280" y="2332080"/>
            <a:ext cx="7515360" cy="38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60200" y="1460520"/>
            <a:ext cx="261720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loring 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630440" y="2114640"/>
            <a:ext cx="6772320" cy="346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