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46437"/>
        <c:axId val="2488397"/>
      </c:barChart>
      <c:catAx>
        <c:axId val="34446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8397"/>
        <c:crosses val="autoZero"/>
        <c:auto val="1"/>
        <c:lblAlgn val="ctr"/>
        <c:lblOffset val="100"/>
        <c:noMultiLvlLbl val="0"/>
      </c:catAx>
      <c:valAx>
        <c:axId val="2488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46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38E-4F84-4097-AD5B-286A2994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06D-B511-4C1A-B86F-88E144DE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E46-0F14-4B89-84CA-AB986699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081-C523-4105-B308-57167C11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D3B-A759-493D-98FD-2426302F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2B8-8F6D-467F-A5E6-6495FBCD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3C4-E706-45DF-9280-AA4C3AA4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DCF-FEE8-416C-AE23-3DD8013D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14C-6A3E-45BC-BCB4-45518405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81C-7B46-4131-8A47-71B2E4E5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455-E64F-4158-AFD0-91E5A8D3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694-A029-480C-A877-AA9D3E18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86A84-14EC-49A2-9EEA-E21546BF51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