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96558"/>
        <c:axId val="38024705"/>
      </c:barChart>
      <c:catAx>
        <c:axId val="24196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24705"/>
        <c:crosses val="autoZero"/>
        <c:auto val="1"/>
        <c:lblAlgn val="ctr"/>
        <c:lblOffset val="100"/>
        <c:noMultiLvlLbl val="0"/>
      </c:catAx>
      <c:valAx>
        <c:axId val="38024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96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9B3-1AE8-4C7D-8E5A-B7FD1490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B18-8DF1-4FDB-AADB-A91C60F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900-9776-4BD9-AF19-44354785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E28-9289-4F72-A1F2-67FFE3E7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D73-1745-4FD5-B8C7-1B3D1455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29E-9B63-43AC-BEE7-24DA3ADC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851-0AD7-419F-8A50-861D311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36F-3300-446C-8A12-280C81B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8B9-6A7F-47E1-B147-EF36D886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C81-DFCE-471A-A63A-1E0CF29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0D8-6EF1-4739-B008-E5871BB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010-CD60-4FE1-B53E-40F70DF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F536B-D3FE-4827-A287-4D2788CB6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