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49647"/>
        <c:axId val="26120324"/>
      </c:barChart>
      <c:catAx>
        <c:axId val="22549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20324"/>
        <c:crosses val="autoZero"/>
        <c:auto val="1"/>
        <c:lblAlgn val="ctr"/>
        <c:lblOffset val="100"/>
        <c:noMultiLvlLbl val="0"/>
      </c:catAx>
      <c:valAx>
        <c:axId val="26120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9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A88-EB40-4D6C-8D9D-27A7D967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361-45C5-4BE8-A5C7-39929230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655-AECC-4CBA-A2C6-4A16FA8A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EC-AADF-4C83-AA6D-BC77B1B1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543-51EA-478C-BB1B-343716DB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8B6-94EF-4980-A977-04F9888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013-4CEC-47FB-ACC9-4BC4F38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25B-64C2-4DFE-AC7D-F703A11D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DE9-75DE-49F4-B9E3-42F9D88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B00-C45C-4072-B7A8-6F81081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4CC-7656-4844-B968-2210A4B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F11-E01A-420E-A785-F519F0D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6CAA-3065-426F-812F-21620F22E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