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82BAB0F-2485-4CC4-B84C-75EF1A1ED68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9924C3A-63CE-4094-80A1-B27774245EB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8BA9A36-2438-42DF-BBC2-F04FE325CDF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BC77CB4-2C3D-4C3E-8596-9CFFFAAC6EA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A5F73D5-9343-4F32-8B03-3CBCC33C0BC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4AA1101-BD63-447A-A37B-29D2F16C2FC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542E19B-4858-44A9-A26E-809FFF71FDF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E90B4DF-1C47-4337-B336-CF01BAD231E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E261827-3AD9-4674-A3DF-9B72CE1734E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1C81875-B3C2-4A4F-9B95-706083CF106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B904D53-A78F-4432-98A4-4F8DC80800A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D76731D-F2BA-4611-BEE3-0FCD0B113A9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2447A01-13EF-4656-83D8-F417EDD194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CB1341-E7B0-425C-9B58-DACF6EBCDB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C2C071A-AD39-4289-A383-CC598A152C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459A2C-6251-48D6-8E8A-7FF15AA46A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130031E-658C-46FD-945F-8EC83113CC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D26E560-D158-4929-90E8-187697A28B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40846F7-D955-4D00-9B84-2454329321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5B17BF4-CCA9-4AFE-81E8-C55D9D9DBD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7D1FE60-2F51-4D87-8A59-8C509B7386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F36F1D7-0078-495A-9E07-C3816CD599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989C5F6-F7FD-4E26-A495-E2471EE422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6E4540-F400-4EC2-8589-F32AE54921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05377EA-646C-49A4-A055-DFCAD8D9838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192918D-9FF1-4CB8-AAC1-964C6216D1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6088D89-3CE1-477D-A398-AAB5AEEAD0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A129200-C624-4A16-9F2C-4611BD6C08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074C4F9-B2C3-4FFD-9029-0EE22EECE0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175D01-A8AD-4DC9-A2C2-E1F9CCDD0D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C0EAAF-6A57-41CD-91DC-0760C42527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D38736-79DA-48C6-A951-88B58E05B2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5E1204-53D7-41AD-A3E3-731557FBE0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3E8E99-C3B3-408F-97C9-A6C862AADC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F78CC1-5FF1-451A-A0FA-A8D91EA6F6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103BA6-74EB-4FFE-A9F6-6CB6C8AB85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A14CB-6948-498E-BB1B-5C9183A5BFCD}"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45CD3-B397-45B3-97D8-A5F7A7799AF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4ED7DD-5EB6-4239-8EB5-C374E0B855F8}"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4E6E48-AA6E-468E-A640-BFFEE05FC967}"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1A09D1-DA0A-4E7B-BFCF-3408661B81E1}"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25AE92-41DE-47DC-947E-218DB4F66B0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379BB94-442D-4AAF-8CAD-A310B53FD427}"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54E1FB-6147-42AE-9D4B-53FF51AA6E24}"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A4B361-BC31-47FB-9128-310AA05D6560}"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350A485-F899-4387-8FAE-D1FE85DEC4AB}"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855AD43-9D00-4617-AA7D-317FB9B8B1DF}"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0265BA-82D6-435C-90E8-935EC47266B7}"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AA3859-B49C-4344-BD11-0EF8B7C47D63}"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E054A17E-D398-4840-8BEE-756772853C97}"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7ED8FD-7B04-4BFD-BBC0-3C8FA1F758C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9EC123-6AF0-4198-A79F-96FA4E75A9F2}"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FCCF85-2A78-4815-9E5B-92D3256BC3D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9F2F12-2F18-4EB9-87F0-65CB7E29FEED}"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D5829A-F092-45BD-BBCC-DAB731F2DA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756A21-18CF-40B7-980B-C03BD2FE9B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EF51B6-E238-4882-9D62-B6CB82158530}"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73CCBA-6CA8-4829-9EF4-EC50A6A2E1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B4597D-2FFA-4FFD-A031-B065F0134D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9BC313-2D59-4DF5-8E8E-346D73F97CE8}"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66DCCB-3099-4CD3-95A0-82FB0ED2C3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D7F23A-41C8-4214-89F3-FE88CBD2F0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9360E8-64AF-4E3D-A694-6773693CBB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985EFB-8D34-477E-BBC6-07CC71D264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263D5C-4772-48A2-85F9-6CA0A82B23B7}"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9DC2DD-986F-4A2C-AC72-3E49723461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E2AD89F-E697-480F-B67D-565CACD104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4836511-D79A-45E7-8391-8364A4F5CB44}"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9FD4CC5-7F8A-443B-848E-C0AFD3AD68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0C466D-7E81-4D09-B8B8-1EAE72A2EB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D3E3D9-CC41-43BC-93FF-76B985BDBC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46C8FED-5E10-4E1B-BFF1-C321314E1B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88744E-9719-467C-BA19-282DEC5EFD6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187C52-E28F-4451-BF87-C27A81D582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26A10F-0CAE-44BF-A460-891F68F311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468F25-08AE-4026-BAC6-1FCA7EDDD83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F478250-F8D6-4208-9746-6D04C7B569E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F5B8DE-4991-41CD-B8BB-A838DF4485C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4E5838-5B87-4F96-ACF1-0FD4340B569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C1D3342-EE98-485D-A996-4DFCAB7FDC7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A0FBCB-4F7A-4D94-A9AB-568F780FFE4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503A2F-6FC7-425F-9635-88734CF1FA3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E2BD3A-DD93-4955-8517-AAB21B26920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9741B3-CA2C-4A8F-B4EE-A7EB272C007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D0040C-BAF5-4371-B4DF-6AA6E895F85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5F27EE7-666C-483E-838B-8165F077749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9DEC8B-BD61-4C17-8168-A1DFC09E629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FCC2EB-735B-4D61-A802-B83E8135957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17CAE4-9ED2-466D-B879-FE4CBFFF6AA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617AA6-155D-4870-9167-58319688447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9758DA-217C-48EB-BC8C-72C838ECE6C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DD35701-D415-4341-8CA7-455F399EAC9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2918C1-962D-4E83-900D-32D7CB835F6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9EAD599-9EDB-443D-9148-4C097ABBEB8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AFF9BC-E2FD-4287-A52D-8E1962C91E4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3A18DD-F05F-45FE-A776-A2BEA2A1CB85}"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15C825-DFBD-4390-838C-67E7C9DD89D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EA2E51-9561-4184-A043-179812049FF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BBE345-66B0-4B9F-82CE-DC8D5D3A8D6C}"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5E769F-681A-49EC-8AA5-EB4142C2FE9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9024B3-9C6F-44B2-9B5D-34B2289ADE9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E543158-F409-43BA-9CE9-6334D411F36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128821-F29D-4F38-8E37-CCD82E8D483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6239C7-AC07-450D-947C-C046070E15A5}"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7F1887-7B00-4CBE-A81A-50D74B083658}"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4E5971-AA0F-430D-99DC-66D7C5C4CC2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3124FF-5AEE-4998-B53E-DCF6389A834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339FA2-D43A-4981-AD7B-966D7648E7C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3F3C3D-DF24-4F96-AC22-2066D6115346}"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F8201E-DAE4-4FD4-A309-464A57A7C4EF}"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91078E-FD1E-4359-9D63-1776B10F09A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46F4C5-2C66-44C1-A1C5-EB4D4CC51EF3}"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B35EB9-C5B5-4ACE-B63C-069797B1FB2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420311-C08C-4887-B029-87AC8A31EEC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B922C9-651A-4295-BDC9-9EA36CBE143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B76967D-72B0-451C-BD40-6F79D7AE413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3A398F-E294-4F53-ABDA-03B7B50A0E1F}"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B0CF79-C686-401A-AC63-C29D23C2EB2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9C2146-63CA-4B33-B987-F22305BAC444}"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F93A467-F3ED-4896-B9D9-F3AD2D68E4DD}"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F389F6-DB5F-4F2F-B8AD-97987972DAC2}"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8F27C6-89F5-4E1F-9957-1ACEA7E3669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AEA1B7-D6B8-40D1-A7C4-18CE4C2377E7}"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086A7D-5785-43E1-8800-98C2AC361E5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2F2623-586F-4A63-9D2A-966B0A6ED4B7}"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71B4C6-855A-4AED-9475-0444A5E9C591}"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E07FB6-EEBD-4EA1-BB7A-679E15BDD71D}"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75C30C-B559-4BC1-977A-7B8D9FAE032F}"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C2F303-7CC8-4F2F-B247-94AE2C3B7085}"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0D8726-8DC1-4F99-B5AF-69CF6CB5585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5F73B27-1E8D-44A0-9C9A-9B425E30E207}"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C37F15-CEE4-48E9-8F57-A576FD100BFC}"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A79219-E9B7-4B75-AD80-064F7409395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42141F-96B8-45D2-AC87-14E7C0A3AF5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2FE2A7-E4AE-439D-A75A-BF39A20F4CCB}"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3FD85C9E-6061-4EB8-9A24-F619392D2D15}"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DE9D3A-7785-4AC9-86B4-8509FEFBB26C}"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95FCA74-AD72-4382-B6BA-0EF9E796F7E7}"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14A5C2-108E-4D23-AF83-B9564550C6A2}"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B246B5-164B-4120-B68A-732A88718619}"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95CE93-54F4-473B-A8D2-CDB6B377A1A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7DFD18-8281-4258-8E9F-9485900A7069}"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9707F7-24C7-43C1-883D-7CEE0AEAEC92}"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F0B8DB-F140-4D61-B3A2-3CC36328C635}"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749A6C-15DC-42B9-9B2B-B382D486E0FB}"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22F676-AAEB-4219-BDD7-8EE7625F2894}"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9DACF6-4E8C-46DD-AA6E-63CB8EA0296F}"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49521F-0832-4548-BF36-7DB7201BFCE5}"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5DC97E-5073-41F3-B162-F9B183BDC277}"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